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5BD-D744-44CA-BC3A-EE81032B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C6A-10BE-4951-A260-82379A0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56D-7920-42AC-B075-053EF440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3AD-09B4-44C2-955B-5AD3E0FF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C59-510A-4653-933C-D87DF62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31BD-D7A1-48C6-BFA3-9C0755A5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15A-12FF-42C3-B4B8-BB1A938A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44DF-6B04-4D49-9957-FCC1084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712-9ED9-447C-B2CD-634E7E7A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356-3555-4A3A-A59B-D0F667C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F40-56E8-41E6-85AD-40E03E9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B19-8910-4A73-ACFB-A493BF3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646-1C66-42AF-A6D0-808981E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3E3-1BDD-40E7-9E7F-1E35292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CA18-4C81-4478-AF52-BCB4AE8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306-7D62-41C3-8912-DBA8EAD6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6828-6A99-4549-BFA3-4249F384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B08-6C24-497A-9F5B-8C0C491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F4D-2B58-4E69-B3AC-EF07077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AAC-DC31-423B-AE54-3D7E400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5CF-D998-4B52-9F7B-92EEB99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0B6-02A1-4928-969A-AF5E46E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7BD-2DF4-4DF2-A833-5AF5928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F6-641F-48AB-BFF3-7E8D3294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84B1-191A-4BEB-9437-4BED30CC5D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915C-C66E-426A-9E33-6D8766527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Divided Kingdom</a:t>
            </a:r>
            <a:br>
              <a:rPr sz="4800"/>
            </a:br>
            <a:r>
              <a:rPr b="0" i="1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6, Lesson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5:16 – 16:14; 2 Chron. 14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5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To D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Has Divided:  Israel and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= Israel  (10 Trib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= Judah (2 Trib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oboam Established Idol Religion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le Division is Corrupt from top to bot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Wavers With Good and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ings of Israel and Jud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oboam 17 yrs (Ev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jam – 3 yrs (Ev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a – 41 yrs 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1 – 22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ab – 2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asha- 24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40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838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rael – Northern 10 T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24382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ah – Southern 2 T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37920" y="1219320"/>
            <a:ext cx="3124440" cy="19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752480" y="2743200"/>
            <a:ext cx="3810240" cy="1676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380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ra the Cushite Invades 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86400" y="2133720"/>
            <a:ext cx="0" cy="266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 and Judah are delivered from the Ethiopians ( 2 Chron.14:9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asha and Israel – 24 evil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aithful move from Israel to Jud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Chron. 15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of Azariah the Prophet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hron.15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 Renews the Covenant with God – 1 Kgs.15:9-15; 2 Chron.15:8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’s War With Baasha – 1 Kgs.15:16-22; 2 Chron.16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9051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24:07Z</dcterms:created>
  <dc:creator>Terry W. Benton</dc:creator>
  <dc:description/>
  <dc:language>en-US</dc:language>
  <cp:lastModifiedBy>Frank D Vines</cp:lastModifiedBy>
  <dcterms:modified xsi:type="dcterms:W3CDTF">2005-07-12T13:43:50Z</dcterms:modified>
  <cp:revision>2</cp:revision>
  <dc:subject/>
  <dc:title>The Divided Kingdom Till There Was No Remedy</dc:title>
</cp:coreProperties>
</file>